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44D-B42C-43C2-9CB9-FC4EFC61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BFD-208D-4319-919E-85C4A164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AF8-9F2F-4BEA-BBEB-75FB9039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803-8FC8-49C7-9793-728166C0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084-F991-4C06-8838-64B8E689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87A-48B0-42C7-92ED-3B7C2A3B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573-3761-4677-9785-CA71F0BA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38A-8080-4E41-99DA-BF772562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076-E78A-4C98-A550-A03AE470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7A6-6A4F-45F6-8FC1-176B32C6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222-E844-40A9-98D1-12B9878C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F77-2AB3-4824-8E50-0862F15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2805-36A6-431A-BBC9-AFF190C37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5486400" cy="830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76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يسـوع يـا يسـوع      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احلى واطيب قربانة؟  يسـوع يـا يسـوع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    نعمــة ما الهـا تانــي!    اول مرة بحياتي               عـم بتناول هالنعمــ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برفع قلبي ودياتي ربـ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دوقني الطع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عطينـي القربانة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227560"/>
            <a:ext cx="17524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0"/>
            <a:ext cx="3581280" cy="74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ما نطرتو   هاليوم من زمـان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عمـري ندرتـو لسر القربـــ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ـارب حبيتــك وبالقلب خبيتـ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ع طـول لبيتك عهد الامانـة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!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4191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0"/>
            <a:ext cx="34290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ــن قنديلك  قلبي ضويتــو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مـن انجيلــك حبـي رويتــ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رب سلمنـــي الانجيل علمنـ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ع طول كلمني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قـــوي ايمانــــ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410080"/>
            <a:ext cx="762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04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411480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امـــي وابـي    ع الدني طليــت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اخـي و اختــي مـن قلبـي صليـ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يـارب خلينـا وبالحب ملينـــ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وع الدرب دلينا صــوب القربانـة</a:t>
            </a:r>
            <a:r>
              <a:rPr b="1" lang="ar-SA" sz="4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!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7:57:38Z</dcterms:created>
  <dc:creator>SUZANNE.MD</dc:creator>
  <dc:description/>
  <dc:language>en-US</dc:language>
  <cp:lastModifiedBy>HANI SAFI</cp:lastModifiedBy>
  <dcterms:modified xsi:type="dcterms:W3CDTF">2003-04-30T13:47:47Z</dcterms:modified>
  <cp:revision>2</cp:revision>
  <dc:subject/>
  <dc:title>PowerPoint Presentation</dc:title>
</cp:coreProperties>
</file>